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73287"/>
        <c:axId val="78665219"/>
      </c:barChart>
      <c:catAx>
        <c:axId val="41273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65219"/>
        <c:crosses val="autoZero"/>
        <c:auto val="1"/>
        <c:lblAlgn val="ctr"/>
        <c:lblOffset val="100"/>
        <c:noMultiLvlLbl val="0"/>
      </c:catAx>
      <c:valAx>
        <c:axId val="78665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73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BD5-9872-488C-9E0D-BB987A4F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C56-6EE4-4FE4-8019-38A7BF8F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401-ACE6-4DD1-BDEF-859FC478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D38-0372-49C7-828F-9F5DE0F9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CA6-4797-44C5-BB10-D4C4B21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114-27AA-4655-BAB7-E0F106A8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DA7-5C1F-46FD-BE79-723B5AD1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0D7-3BAB-4BC9-808E-5DF14FDF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AEC-2F17-43CE-853A-751004E0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25A-759D-47B2-972E-958426A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30F-37D8-47EB-B510-ED12CBF6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20D-98D8-48EB-979E-C1C81A9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FF6FA-A99D-42FC-8352-CB656E445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