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50708"/>
        <c:axId val="36696334"/>
      </c:barChart>
      <c:catAx>
        <c:axId val="14150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6334"/>
        <c:crosses val="autoZero"/>
        <c:auto val="1"/>
        <c:lblAlgn val="ctr"/>
        <c:lblOffset val="100"/>
        <c:noMultiLvlLbl val="0"/>
      </c:catAx>
      <c:valAx>
        <c:axId val="36696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50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794-3165-4FBE-827B-6A689757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A5F-5D59-4FE6-9C10-BC74D561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F5A-DD12-4CCB-91FB-AB8FE1F6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BAC-A9C8-46BB-9AD5-5F39B3A3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7DC-E075-4FCF-A102-A1A7432B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FB7-0E70-4524-8AE8-B090CD3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A23-E060-4CA2-BD00-A5D74D6A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E6A-EDDF-47FD-BB5E-D8797E42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1E4-9EAD-41C4-A5E2-7BB9721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F1B-474D-4297-A564-EA3D6D6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064-0ECC-436E-9167-B0DD04E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4F8-CD4F-43E6-9180-E73EEDA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70E3B-3BB3-4FDB-A9D7-3F35DCC64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