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60059"/>
        <c:axId val="75871883"/>
      </c:barChart>
      <c:catAx>
        <c:axId val="57600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71883"/>
        <c:crosses val="autoZero"/>
        <c:auto val="1"/>
        <c:lblAlgn val="ctr"/>
        <c:lblOffset val="100"/>
        <c:noMultiLvlLbl val="0"/>
      </c:catAx>
      <c:valAx>
        <c:axId val="758718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00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20B5-C832-4C07-8067-90FB9156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0DEB-6E2E-4DB8-905E-D764074F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89E4-D110-45AF-A9A8-D9E8BFEF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D587-9A0F-4AE3-A40A-40CD3AB8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F545-73D5-4EF1-9841-70DD8F32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DDB3-C7D8-4A46-B8ED-0AB37E69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62EB-E688-4C15-AE0E-1DBDB628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662B-B960-41C0-BDD6-4BC3B25D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FDE-9477-4DE0-9F64-103F5480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EDDB-FAAB-40D7-B65B-87918FA3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7048-7B9E-46F8-BA23-17D57A88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28AF-7404-4BC2-90D3-17F3AE52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EBBA2-AC5F-4F84-A006-19537F4D2F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