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38096"/>
        <c:axId val="3178778"/>
      </c:barChart>
      <c:catAx>
        <c:axId val="13638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8778"/>
        <c:crosses val="autoZero"/>
        <c:auto val="1"/>
        <c:lblAlgn val="ctr"/>
        <c:lblOffset val="100"/>
        <c:noMultiLvlLbl val="0"/>
      </c:catAx>
      <c:valAx>
        <c:axId val="3178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38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C93-809B-41B4-AEF3-68B9B243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9A0-BC7D-4382-A16B-582CBEA1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AA8-E276-40CC-B22C-6C02E4BD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31F-8417-47BC-A2CB-0252FB79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6A1-3179-4E99-B55B-66C3771E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6AA-AE9C-4518-B729-F6000F0A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ED8-AC3A-4DC3-B0C2-9C8AAD26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C00-DB0D-49CE-8627-20081129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819-B1D1-4EFF-9138-7960CC70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0A6-7B59-4DD1-90E2-BD2F662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1E1-89FF-44AC-8AF8-1B96002D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2D1-1BE8-47F1-86E3-B55EB2A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8186B-D077-40B1-B064-1674901758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