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95555"/>
        <c:axId val="12671972"/>
      </c:barChart>
      <c:catAx>
        <c:axId val="68795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71972"/>
        <c:crosses val="autoZero"/>
        <c:auto val="1"/>
        <c:lblAlgn val="ctr"/>
        <c:lblOffset val="100"/>
        <c:noMultiLvlLbl val="0"/>
      </c:catAx>
      <c:valAx>
        <c:axId val="12671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95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5F1-DF22-4D7D-8A9D-7A2F0ED5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927-08E2-4634-A626-E06B5711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1D3-CD17-4EFE-B93D-FE4FFFF1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948-85A4-423E-B55D-A78C0F4A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53D-6F56-4A99-917E-368458A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F95-238C-49D6-8380-EEFE7755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288-B8AB-436A-9997-3B8DCFCC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94C-6D0A-427F-8836-D24D103D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8D7-7C49-4152-9D7C-5100B2AC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F90-1661-4588-A05F-C80A4DE3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3A8-32D6-44B4-82F1-DBFB7C34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27E-3FF3-45E4-9F6F-9D02712B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1F010-6F5B-41C5-9E24-2545868C1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