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125555"/>
        <c:axId val="94925365"/>
      </c:barChart>
      <c:catAx>
        <c:axId val="861255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25365"/>
        <c:crosses val="autoZero"/>
        <c:auto val="1"/>
        <c:lblAlgn val="ctr"/>
        <c:lblOffset val="100"/>
        <c:noMultiLvlLbl val="0"/>
      </c:catAx>
      <c:valAx>
        <c:axId val="949253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1255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3FDA-841C-4E5D-BD1F-14D36E064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B83F-F424-4448-A6BB-54C36668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2C5F-731A-42BA-8F58-A107C332F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3050-F8B7-4201-A7B6-0B84A737E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3A54-F036-4B6D-BD21-011737F5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676B-2B4E-49FA-BBB5-32470D8D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0A69-E885-4E63-AE4B-07364DED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CBF0-E863-4977-BEE2-F88BE8CF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3E00-2951-4D00-B6B7-1242A468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7A38-3748-451E-A01B-CB539002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21B4-4C69-4EFA-B86B-EAF5FBC4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A19B-A5A8-4541-BB8A-D1E5A495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AA88C-BBAA-4048-AA43-3E8691FA19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