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49427"/>
        <c:axId val="81280581"/>
      </c:barChart>
      <c:catAx>
        <c:axId val="69494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80581"/>
        <c:crosses val="autoZero"/>
        <c:auto val="1"/>
        <c:lblAlgn val="ctr"/>
        <c:lblOffset val="100"/>
        <c:noMultiLvlLbl val="0"/>
      </c:catAx>
      <c:valAx>
        <c:axId val="812805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94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790C-819A-4852-8429-99DBD126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E398-6957-4C87-A919-C60786E8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4799-E950-4DB1-8E18-4D67A71E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0563-4C22-44EB-BB9D-41146DFB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32A3-3D43-42CD-9932-45A89851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9D9D-57E7-4D9A-A900-676650BA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8510-0CCC-4BC7-9077-D8A94D68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B2EF-F29B-4804-A853-C47495F8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E9C3-C86F-4980-834C-AE3689F2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FF0C-D973-4E43-B6F9-ADEBE064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05B1-4AF3-4C2E-BBC5-C2EE724A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ACA-02D8-4DE2-8DC1-06F2A24A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7AA6C-FD92-4FED-8154-68C8E52DE2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