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23108"/>
        <c:axId val="57496106"/>
      </c:barChart>
      <c:catAx>
        <c:axId val="78823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96106"/>
        <c:crosses val="autoZero"/>
        <c:auto val="1"/>
        <c:lblAlgn val="ctr"/>
        <c:lblOffset val="100"/>
        <c:noMultiLvlLbl val="0"/>
      </c:catAx>
      <c:valAx>
        <c:axId val="57496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23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C98-FCFD-4014-B723-0722C9C3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4E1-FCC3-450B-A1B1-C2FF2BA5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154-1CF5-442A-A198-0F3E4A04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E55-711C-4A42-B9C5-E9B61B2D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A15-9904-4DA9-A9D3-784491AE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EE3-D574-49BF-ABEA-357EFF58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D71-47B7-4D3F-A0E1-40EBD151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16B-F15D-494D-A5B4-4809F949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AF8-21BA-4DC3-AED3-A9B9E754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D79-FBC7-4146-BDD4-8F359F1D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0E4-1BAD-4600-8C0C-26C2DEE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D19-25A1-4307-84A1-42974ABF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F1EDD-88B2-4361-95B9-08305306F6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