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43897"/>
        <c:axId val="37981527"/>
      </c:barChart>
      <c:catAx>
        <c:axId val="72443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81527"/>
        <c:crosses val="autoZero"/>
        <c:auto val="1"/>
        <c:lblAlgn val="ctr"/>
        <c:lblOffset val="100"/>
        <c:noMultiLvlLbl val="0"/>
      </c:catAx>
      <c:valAx>
        <c:axId val="37981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43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B33-AFB6-47A4-90CE-264BC939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5F1-85CA-4292-BAE5-426884DD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BBA-E450-4EF1-B0D3-EDCF6EAE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3F1-FDEE-4F45-98B7-9F3470EB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242-3E99-4D47-A5C5-D3BC5FB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D03-4791-4B9A-9B99-BA607964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2CD-5F27-4C0B-8618-C5899796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BD6-3F40-400D-8FC1-7103B2F0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73F-AD4B-4D96-B42A-6D9AD6F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9FD-7F57-45A8-A1A1-63EA15F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03B-A3F8-49C3-ABDD-D7C157B7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9C6-7ED0-4257-AB38-5A3AB97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277C7-4446-451E-A44D-D482940636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