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32860"/>
        <c:axId val="53538867"/>
      </c:barChart>
      <c:catAx>
        <c:axId val="49432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8867"/>
        <c:crosses val="autoZero"/>
        <c:auto val="1"/>
        <c:lblAlgn val="ctr"/>
        <c:lblOffset val="100"/>
        <c:noMultiLvlLbl val="0"/>
      </c:catAx>
      <c:valAx>
        <c:axId val="53538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32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09B-A5C2-4DEB-8FE8-3F35639B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DDC-7D5E-4818-9885-170D5E5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09C-E158-4125-BE0B-4EFDE2C9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5E2-84C6-4F99-A206-F93749D6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6C3-6C8B-497E-ACDF-66674A0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A52-4B50-4654-ACEE-6279B4C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910-B5F7-49E8-8332-25F6FEC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23F-B9B2-4676-896D-A18BE302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867-6C8E-4D86-A7B8-723CA86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933-2E47-49F4-A33E-B5DAEF7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92F-5DEE-4819-A9F0-0C3E7B8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8B6-0502-424D-934A-36B4CE5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87C68-97C2-4643-B49A-C3E5A0A46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