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79330"/>
        <c:axId val="41241533"/>
      </c:barChart>
      <c:catAx>
        <c:axId val="76879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41533"/>
        <c:crosses val="autoZero"/>
        <c:auto val="1"/>
        <c:lblAlgn val="ctr"/>
        <c:lblOffset val="100"/>
        <c:noMultiLvlLbl val="0"/>
      </c:catAx>
      <c:valAx>
        <c:axId val="41241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9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51C-2275-4F61-AB33-0975BDE5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B3C-4807-4996-AAE7-E5E0F93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517-3353-45D1-939A-67DF7155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CEA-F1C2-483C-A790-A5A365B4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A4A-CEAD-479A-B12B-EAC2518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03C-1BF3-4E94-AC12-130D8FB0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6DE-99B0-4FE9-994D-CF0BC482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CEF-656C-4F1E-ADF7-0E69380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3E9-49DA-4456-8398-451E1D1B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410-443B-406A-BDEE-BA171C3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862-DB4B-4C83-8DEE-4B84329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890-192E-4F12-B18D-C3EFBAD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01C5A-EF4D-4540-8222-85F9C6B57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