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9888"/>
        <c:axId val="3422429"/>
      </c:barChart>
      <c:catAx>
        <c:axId val="8599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2429"/>
        <c:crosses val="autoZero"/>
        <c:auto val="1"/>
        <c:lblAlgn val="ctr"/>
        <c:lblOffset val="100"/>
        <c:noMultiLvlLbl val="0"/>
      </c:catAx>
      <c:valAx>
        <c:axId val="3422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9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1A9-10EB-41F0-878E-2B190E07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79E-6926-4F24-9B5D-AD7EE35F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633-F494-4712-93F2-F36873F2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E43-6758-4C3F-984E-3776C3CD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E81-CA34-46E9-9AD2-0460A395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8EE-ECA4-402E-9345-31134423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1C2-288F-4AB3-89D7-ACA80C5B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22C-3339-4BCD-9C95-5BF60B4F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096-1C19-4A01-A2A0-119EDDF4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6AF-0FF9-4DE1-A882-E2F76EA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3DB-3013-4E57-A767-B456A8E7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E61-55E7-4F0B-B753-59191B74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6CBD1-5D76-43A5-A9D3-E0321B70DB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