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20670"/>
        <c:axId val="23114758"/>
      </c:barChart>
      <c:catAx>
        <c:axId val="96520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14758"/>
        <c:crosses val="autoZero"/>
        <c:auto val="1"/>
        <c:lblAlgn val="ctr"/>
        <c:lblOffset val="100"/>
        <c:noMultiLvlLbl val="0"/>
      </c:catAx>
      <c:valAx>
        <c:axId val="23114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20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5D2-10A6-4C41-9922-0AAC76D6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61C-49CB-4B7D-8877-F2255C36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D49-8728-4F09-ABBF-3BE4F555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719-9EA6-456E-B2CD-66CF76FD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E89-B1F0-45BE-96BC-5737E88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A9B-9FEF-4398-8CD5-5BDC38FB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C76-56DE-4CA3-A3C6-0C86C4C4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1DF-7306-4C8B-892D-B5A23569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A0B-28C9-4C0A-8369-28DC41A1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520-A47E-4C2D-BB15-5F35845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B58-FE46-4E11-9588-3880897D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F92-BCCB-484B-BDF0-DAE911EA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66432-7CC3-4C05-A330-4C87067844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