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51634"/>
        <c:axId val="29255754"/>
      </c:barChart>
      <c:catAx>
        <c:axId val="28751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55754"/>
        <c:crosses val="autoZero"/>
        <c:auto val="1"/>
        <c:lblAlgn val="ctr"/>
        <c:lblOffset val="100"/>
        <c:noMultiLvlLbl val="0"/>
      </c:catAx>
      <c:valAx>
        <c:axId val="29255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1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A2B-BBA0-428C-8282-E0A4BE78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8B4-A5BE-4FFD-828E-A9D1117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572-2442-4BE6-9100-A687AB1C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CE7-8C22-443F-89B6-185B2883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DE8-2AD8-476E-927E-B8EEA55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EA2-82C6-4284-AE85-82DCA2D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BB7-43F0-4AEE-BD24-B566B4E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6E7-D8C3-466C-856C-C9A93B9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B3F-3BB7-4E02-856F-C7D6A605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E26-0625-4FCB-9AEC-9B9E87B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31F-4F6E-45C2-8C29-8646E37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011-68BC-4FD0-B513-E0BA477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DDB32-53D2-45E0-8519-87AD65BB6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