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218697"/>
        <c:axId val="52178438"/>
      </c:barChart>
      <c:catAx>
        <c:axId val="332186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178438"/>
        <c:crosses val="autoZero"/>
        <c:auto val="1"/>
        <c:lblAlgn val="ctr"/>
        <c:lblOffset val="100"/>
        <c:noMultiLvlLbl val="0"/>
      </c:catAx>
      <c:valAx>
        <c:axId val="521784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2186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5B53-35EF-4AAC-84B4-FD12C92FE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A8C9-A7DF-4D4A-A86B-80E5A8825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CF3A-08FA-4C45-99A3-4426FAD56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DEDF-767B-4E35-A900-0A6857845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E3D5-38EE-450A-A490-B6F6AF6CC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11C4-16D0-4D1B-AF34-34198ECDE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7799-597A-4F7A-A0B1-9694B274A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1C15-D6F1-436B-85FC-55446B62F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1DBF-F05A-48C7-8BCF-3B2EFA0DC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1EAA-4975-43DE-9836-5080F2750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57B3-5106-48D1-AA4B-982D80A91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C43C-CC83-495F-BEC2-3311D82C6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53B784-6A3D-42B1-8653-E9973B33B18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