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99056"/>
        <c:axId val="11755925"/>
      </c:barChart>
      <c:catAx>
        <c:axId val="28999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5925"/>
        <c:crosses val="autoZero"/>
        <c:auto val="1"/>
        <c:lblAlgn val="ctr"/>
        <c:lblOffset val="100"/>
        <c:noMultiLvlLbl val="0"/>
      </c:catAx>
      <c:valAx>
        <c:axId val="11755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99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213-C60E-4EEA-950A-E80A11F9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502-1DA9-4A4D-A5A2-F2F1C05E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097-B2FB-4045-B4FE-B7C61EF6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B01-A417-4BDD-B6BC-792AE9FE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B03-2AFF-44EC-BE9A-59DD019D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BF2-8264-450E-B866-9BD13C5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104-3E10-4C3B-A9EA-E633192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21F-B8D6-4AA7-8A91-8A91A19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1EA-8A08-456A-B5A8-9E9CE94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623-6E97-44F8-A826-A248366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FB4-8998-49E7-8922-19C51CE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45C-E57A-4A96-8732-95287A5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059A3-0E3E-485B-BF7E-9B999F1A24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