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8736"/>
        <c:axId val="93907273"/>
      </c:barChart>
      <c:catAx>
        <c:axId val="205587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07273"/>
        <c:crosses val="autoZero"/>
        <c:auto val="1"/>
        <c:lblAlgn val="ctr"/>
        <c:lblOffset val="100"/>
        <c:noMultiLvlLbl val="0"/>
      </c:catAx>
      <c:valAx>
        <c:axId val="93907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87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612-0F01-40F9-A869-C28F8613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877-CC05-48CA-BF31-EC79063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A44-420C-4CEA-8479-9AB9D859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27E-37BD-42C8-B6AF-AC4DD1EB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D07-30A2-4AC2-BC12-23FA562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792-7EED-4ACB-80C5-6CC44542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B66-6CA3-4386-8024-8A754691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24F-FD2C-4D8C-B678-6B28FC6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483-999B-4F5C-8D13-AD370641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FBE-A3F6-41A8-990F-58430F0A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234-FDBB-437D-8B14-D5A107D5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B7C-32AA-47A0-8884-46F2DBCD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26A07-D24E-486C-ABE4-B511C654A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