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9774094"/>
        <c:axId val="26416639"/>
      </c:barChart>
      <c:catAx>
        <c:axId val="6977409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416639"/>
        <c:crosses val="autoZero"/>
        <c:auto val="1"/>
        <c:lblAlgn val="ctr"/>
        <c:lblOffset val="100"/>
        <c:noMultiLvlLbl val="0"/>
      </c:catAx>
      <c:valAx>
        <c:axId val="2641663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77409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DDA02-7121-4B7F-A09F-833BCABB7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651A2-2286-4868-BD34-C27A9619B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9328B-5B02-4B0B-8993-5F95438E9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0721D-0A08-4CA7-82EE-B79F1C3E1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C3232-3218-4D8F-83D6-3E84BA9D2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29901-E2EF-4A13-A826-82DA1D9AF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D7B3C-E66E-4491-86B0-5186481EA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84544-B302-4493-8283-69CBBFEF8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570C9-A3B1-4B29-A675-75EF32839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7C300-DFE2-4F88-9ECF-CA95E8E60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6AA99-8458-464C-8DC1-B8D1C8F6D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BF127-CFD4-407C-BC3C-A906B0D7C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EF0285-11C3-40D0-B94D-D8F27CDFDBA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