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24616"/>
        <c:axId val="51205386"/>
      </c:barChart>
      <c:catAx>
        <c:axId val="23724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05386"/>
        <c:crosses val="autoZero"/>
        <c:auto val="1"/>
        <c:lblAlgn val="ctr"/>
        <c:lblOffset val="100"/>
        <c:noMultiLvlLbl val="0"/>
      </c:catAx>
      <c:valAx>
        <c:axId val="51205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24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765-F3BB-4295-9176-E013C209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603-F2F9-4614-9829-18745D17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660-C161-4607-A958-C1A2A686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1D3-0505-4FDD-8B90-4B824078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1F3-2B0D-4246-BBBB-97D35941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68A-B498-4296-98CE-9F6C3F33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74C-A8B6-4FD6-81CA-727489EA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DF3-876B-41BA-A57F-5044DB8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9EE-3F42-467A-9716-403705EC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DCB-0FC2-40E7-8C66-86BBEFF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EB2-D9CF-40EF-8108-547F4CA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9F9-8DE4-4FFC-BDBE-AB84B9A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D9D73-87A9-4B0D-83DC-55F848E91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