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56096"/>
        <c:axId val="31858177"/>
      </c:barChart>
      <c:catAx>
        <c:axId val="17656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58177"/>
        <c:crosses val="autoZero"/>
        <c:auto val="1"/>
        <c:lblAlgn val="ctr"/>
        <c:lblOffset val="100"/>
        <c:noMultiLvlLbl val="0"/>
      </c:catAx>
      <c:valAx>
        <c:axId val="31858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56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C31-6D4F-4B9A-8012-3254F320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BF0-C4B2-4846-812F-9B4C170B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148-8685-432D-860C-21F2DDC7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54C-3C4D-4FF1-B0C2-A846DBC9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68E-D363-4EB5-85CE-AC1AF7BB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CD4-5419-419F-841E-CFC75894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2E4-BB73-423E-A03A-243E401D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F00-2516-4438-8F51-917FB324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721-B139-4FAC-92AA-09D3AFBD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329-3750-461D-98DB-43479EE2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A8E-C4BA-4393-8E65-A1EE087B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52A-7E10-43EA-AC4D-40B1F4C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C5943-61AF-4C9E-A577-D9A24AC734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