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5980"/>
        <c:axId val="88510551"/>
      </c:barChart>
      <c:catAx>
        <c:axId val="7025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10551"/>
        <c:crosses val="autoZero"/>
        <c:auto val="1"/>
        <c:lblAlgn val="ctr"/>
        <c:lblOffset val="100"/>
        <c:noMultiLvlLbl val="0"/>
      </c:catAx>
      <c:valAx>
        <c:axId val="88510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5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D73-7471-442B-B2C3-CDA679E9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EF2-262F-42F3-B54E-F898E5AC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931-D35C-4C12-95F0-A971F403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1AC-D68F-4782-BBF2-F570CBCA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926-28F8-4634-A425-5DBF363F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3C7-CF03-4F5D-A57B-A2C8718C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7A6-86B9-4928-AD36-C05D2E8F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A3D-31AF-497B-8D41-D155F573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A19-CA33-477C-8F26-9DF0491D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4D1-1FE7-4C47-A2BC-FAF51A1B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377-7D32-4241-8C41-CAA71730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3E0-3DF0-4F4B-928E-3AD8389E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0A522-98B4-4FD4-8E88-7BC9D2FBE9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