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03426"/>
        <c:axId val="37809973"/>
      </c:barChart>
      <c:catAx>
        <c:axId val="1900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09973"/>
        <c:crosses val="autoZero"/>
        <c:auto val="1"/>
        <c:lblAlgn val="ctr"/>
        <c:lblOffset val="100"/>
        <c:noMultiLvlLbl val="0"/>
      </c:catAx>
      <c:valAx>
        <c:axId val="37809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0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56F-E338-4A49-AC5D-6B506CF1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11F-E9CA-4D0E-8311-D5A47451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493-9CA4-48B1-93AB-39EBEDFB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948-BB06-4FE7-8B9D-6C00D99B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19A-AE82-4411-8555-71058DB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983-368C-46F1-ABD3-3B9FCF3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951-CC4B-4BA9-A05B-0825DE0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80E-5B8A-4FD4-946B-DAF3D99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15E-FF0A-4078-8635-796C5B95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B4A-BC88-4E1F-9085-F47B2D4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BDB-3E26-4883-9E1A-808BB29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EA6-A6F3-46A1-B0C2-0896805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271E5-50F6-4E2B-9E96-1D090D1EBD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