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9190"/>
        <c:axId val="52106937"/>
      </c:barChart>
      <c:catAx>
        <c:axId val="6219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06937"/>
        <c:crosses val="autoZero"/>
        <c:auto val="1"/>
        <c:lblAlgn val="ctr"/>
        <c:lblOffset val="100"/>
        <c:noMultiLvlLbl val="0"/>
      </c:catAx>
      <c:valAx>
        <c:axId val="52106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9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222-F280-4D3E-9FB2-D4DAB88B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89CC-51F8-4E01-ADF9-CEE01577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3562-BEA3-4D4E-B6DD-264E4B90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492-5F9F-4997-A5F2-9953F7D2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898-DD74-4FEE-A9EE-173798DF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E74-56AA-4D08-A57D-96F2E32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20B-18B8-432A-96AB-EDE08420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6A11-02D2-4DF8-8505-0163D5E3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D6C-33E8-42CB-ACF1-34E1DA92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1BD-3462-4E31-A240-BF64444E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B9C-9676-4858-9012-86842541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D50E-4CBD-4A73-9705-72BD55F3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D5C71-8C32-4A94-820D-DC0A9E3CAA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