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37708"/>
        <c:axId val="24326652"/>
      </c:barChart>
      <c:catAx>
        <c:axId val="63537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26652"/>
        <c:crosses val="autoZero"/>
        <c:auto val="1"/>
        <c:lblAlgn val="ctr"/>
        <c:lblOffset val="100"/>
        <c:noMultiLvlLbl val="0"/>
      </c:catAx>
      <c:valAx>
        <c:axId val="24326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37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1C8-9795-4F4A-9DD0-FBE53A3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F31-0292-4418-B9D9-B31CDFE5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380-E970-4BEA-9A37-EF405BA0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4ED-3781-48B6-9EC1-3E5C0770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6A3-1381-44CB-817D-2F334EB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81E-B9DE-4BFD-8E0C-76029606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DD6-DABB-4EE2-AA86-9D43835E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3DF-F316-4CA0-8400-A409130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A31-503B-4402-8214-15225204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460-A089-44D8-87AD-850B9D2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08E-7B8B-44E7-ACFE-C08956A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79B-A3F7-452F-8E14-B509964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062A-4441-486A-A9F3-91956452B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