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8631804"/>
        <c:axId val="68129453"/>
      </c:barChart>
      <c:catAx>
        <c:axId val="2863180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129453"/>
        <c:crosses val="autoZero"/>
        <c:auto val="1"/>
        <c:lblAlgn val="ctr"/>
        <c:lblOffset val="100"/>
        <c:noMultiLvlLbl val="0"/>
      </c:catAx>
      <c:valAx>
        <c:axId val="6812945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63180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0E8B3-13F3-4957-8114-6BCCE2553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284E1-4C6F-4C2E-A02A-9BA37655A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7715B-6DC5-441D-8C68-52B60B2D4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D8C5C-92C0-4CAB-95C3-1AB345AF6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F8D3F-04B4-4C06-9C4F-94CE2AEB1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ADA3B-5CA9-4604-ACAD-FC61113A6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580B7-38F1-4201-9FDB-77B9C141F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62377-DDCA-4832-93EB-1FCE2B0AC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9A7BE-09DD-4113-8025-6608734FB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65F2A-5EAF-4DDF-9904-2EA7CE77B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7B9ED-0EA8-4AC8-8F61-96363299B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4F6C8-1968-4F4E-A75C-A6C9667A8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87764B-DA8F-4B09-BFA0-74FD3DEB84D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