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99627"/>
        <c:axId val="64981845"/>
      </c:barChart>
      <c:catAx>
        <c:axId val="67699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81845"/>
        <c:crosses val="autoZero"/>
        <c:auto val="1"/>
        <c:lblAlgn val="ctr"/>
        <c:lblOffset val="100"/>
        <c:noMultiLvlLbl val="0"/>
      </c:catAx>
      <c:valAx>
        <c:axId val="64981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99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1F1-E3D4-4645-9E61-A3A6A8E4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EED-37E3-46B2-A20D-A5F8CB86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EEB-BBC1-49F1-8D90-6135D929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C44-FAD7-4F58-8B57-F3B35615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44A-0A49-4C3A-B051-8885965B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D9A-6AE6-4C76-AFAB-D8154F9E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481-32F4-46B7-93CD-F957F674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7E7-E1E9-4086-9865-8EE4D1A8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E78-FFBD-4EE3-82DE-E1FE1B14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B9B-95CC-4CFC-8442-D0A6FC93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4C3-C25E-4DD3-97C0-EDCE5A38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624-A4DB-435C-93C1-C6DEABBB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1AE65-5772-4E25-87F1-511C2A7B06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