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73599"/>
        <c:axId val="86469919"/>
      </c:barChart>
      <c:catAx>
        <c:axId val="14373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69919"/>
        <c:crosses val="autoZero"/>
        <c:auto val="1"/>
        <c:lblAlgn val="ctr"/>
        <c:lblOffset val="100"/>
        <c:noMultiLvlLbl val="0"/>
      </c:catAx>
      <c:valAx>
        <c:axId val="86469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73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200F-F4C3-48F1-84FF-5B9C2BBE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F086-D58D-46B5-BFB5-DC4DFD0F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9321-BEB4-417A-AFF0-F1FC9F74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B0A-08F7-482D-AA1F-0FDBDA34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432-17F6-48B2-9F49-D3F46FEE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6947-963E-4229-8FE6-3856212C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1C2-1BCE-43E5-9B0A-EDAA6489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B3CB-83E3-499E-BAAA-E5AA4772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9C8-38A2-4673-AD98-4899190F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D828-A4E9-4C31-9F47-FE789C5E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4E0-281E-4030-ACFB-DD238D93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0067-AA85-44DF-8188-8A0998AF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F3376-C8A9-4DA2-AE14-BAA987DD40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