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714166"/>
        <c:axId val="75181410"/>
      </c:barChart>
      <c:catAx>
        <c:axId val="747141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181410"/>
        <c:crosses val="autoZero"/>
        <c:auto val="1"/>
        <c:lblAlgn val="ctr"/>
        <c:lblOffset val="100"/>
        <c:noMultiLvlLbl val="0"/>
      </c:catAx>
      <c:valAx>
        <c:axId val="751814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7141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06F0-BFE7-4840-879D-E1AAA92E7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124A-C6F5-44CE-B595-DBD44B2E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17A8-D77D-4121-B923-15232E2D3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961D-F231-4EA2-94E1-6F4AE7DCE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850B-2FD1-4067-8EE4-EDF8C147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7D5A-2464-4738-B253-CD0B05E8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9F29-01BE-4C3C-96D4-BE1A8EF6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BF4D-E508-4A23-9CD3-2B6FECE8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7B3E-0C31-4B4D-BE2D-2ECAA3E6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49E2-96C5-401A-A0FD-A46389BF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21CA-3E63-4B64-B13F-5C650791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1AA6-35B2-422D-BB08-72C3959E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76F77-75D8-4A8F-A04B-1F6D82FA9D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