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88862"/>
        <c:axId val="45291929"/>
      </c:barChart>
      <c:catAx>
        <c:axId val="18288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91929"/>
        <c:crosses val="autoZero"/>
        <c:auto val="1"/>
        <c:lblAlgn val="ctr"/>
        <c:lblOffset val="100"/>
        <c:noMultiLvlLbl val="0"/>
      </c:catAx>
      <c:valAx>
        <c:axId val="45291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88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C3A-213F-410B-B117-1B4F74F5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8CE-614D-42EB-938F-FDC9B134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3A3-0BEF-4F25-9E19-49E0A6AF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AA1-B9AF-4EAB-8244-3E21D4CC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C76-2922-49CF-A0A8-C6A18613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B00-4026-4C5B-BCFA-4F7B71E1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FF8-185C-46D3-A81F-E3BDAF72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CC8-8C14-439C-85AF-1230880D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E90-0179-466F-8FC7-4B4515AE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D3F-779D-4B29-AD41-8CF7AB1B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2E8-AE20-4B6D-ADB6-46D2733D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6D7-6F5A-44C1-8584-C21FC296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B321D-3853-4079-99D9-12761C23C5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