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8590"/>
        <c:axId val="27419082"/>
      </c:barChart>
      <c:catAx>
        <c:axId val="8918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19082"/>
        <c:crosses val="autoZero"/>
        <c:auto val="1"/>
        <c:lblAlgn val="ctr"/>
        <c:lblOffset val="100"/>
        <c:noMultiLvlLbl val="0"/>
      </c:catAx>
      <c:valAx>
        <c:axId val="27419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8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809B-7227-44CB-9557-833BBFB9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7C3-0597-4ECE-88D5-45F22019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C22-FF15-42C5-8FA9-33ACA231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A0F-2FB2-4410-9D19-EEF3B416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563-B5EE-4E6D-9B5C-2620D228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C9E1-7570-448B-AC22-8CAAF7BD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A98-DDCD-49C7-A034-E8019B57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A78-069D-4138-B4E8-9DD98D73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4277-7446-4678-AEE2-94F4DB6B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EEA-8383-4180-BA0B-928038F3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5015-CE8F-43D1-A9D5-900178FF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F61-C085-4EE0-A84E-0B4A785B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C32B7-0AB1-451A-A03D-CB65A278F0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