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787732"/>
        <c:axId val="62187743"/>
      </c:barChart>
      <c:catAx>
        <c:axId val="977877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87743"/>
        <c:crosses val="autoZero"/>
        <c:auto val="1"/>
        <c:lblAlgn val="ctr"/>
        <c:lblOffset val="100"/>
        <c:noMultiLvlLbl val="0"/>
      </c:catAx>
      <c:valAx>
        <c:axId val="621877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877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88FE-516D-41E8-8571-B938B1D18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0A4F-F9BF-4933-AD82-30AD8862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9577-8212-45C7-B030-FB6C515B4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0AFD-E4AF-4A63-9B7F-5A69EA08E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C954-A00C-4AEE-850E-E08DB2AE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8AFD-E15B-4F0F-B9AE-8F2319AD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D566-34DE-46E8-8CB0-872168BC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6AD5-738C-4609-86BE-CF3547C5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2975-FB7C-4A5E-B583-7999AE95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F661-2717-4B9D-88BC-1DAAF079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921C-0006-4520-87AE-B71505CE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ADE5-FED7-4E8B-BBC4-A4B4EBF2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57CC3-01E1-4F41-93EB-76A36B47B4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