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90164"/>
        <c:axId val="15690634"/>
      </c:barChart>
      <c:catAx>
        <c:axId val="76990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90634"/>
        <c:crosses val="autoZero"/>
        <c:auto val="1"/>
        <c:lblAlgn val="ctr"/>
        <c:lblOffset val="100"/>
        <c:noMultiLvlLbl val="0"/>
      </c:catAx>
      <c:valAx>
        <c:axId val="156906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90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13B-55D3-4CC9-A7DC-01B09C08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E4EB-9C12-44FB-B1F4-13B5258A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630-B6D9-4EDA-A4C2-733E2CC8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D04-DA54-461C-9A08-35E4032F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B95-3EB2-4608-AB53-BF9A3BA9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4B12-4683-4931-AD79-121AA7FE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364-715C-4F61-B789-8F2870FF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3D1-DE22-4FA8-BC64-4E50184F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5B2-A755-418A-B782-8A0F1D2B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3B5-F9D8-428E-BC5E-967165F5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BFD7-997C-4394-8B05-3F0A4FC3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ED2-B3FB-4AD0-B232-BA0A8401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77F2D-C9CA-419D-9EF5-36B4FF8FDE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