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609387"/>
        <c:axId val="52028930"/>
      </c:barChart>
      <c:catAx>
        <c:axId val="556093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28930"/>
        <c:crosses val="autoZero"/>
        <c:auto val="1"/>
        <c:lblAlgn val="ctr"/>
        <c:lblOffset val="100"/>
        <c:noMultiLvlLbl val="0"/>
      </c:catAx>
      <c:valAx>
        <c:axId val="520289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093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610C-F83D-4B57-8007-054036C69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E630-BE0F-4174-BB67-8E1E2C65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F936-2B3F-48B9-B327-1B548C87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D571-52A8-496E-818D-59A75F206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87CA-7590-4F98-8750-A2F2CD83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1A3C-5920-416D-9236-AAA2B9A6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D298-7975-4E9B-9515-B0DA5F37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0806-EDCD-4156-A4A8-3DCDB355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FAF6-832E-4F9C-99B3-8C6E9CF4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52CA-6F25-4312-B7E0-9FCDC7E0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54BB-8B32-47B8-9A28-E67828E1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739F-199E-4907-A569-7D8A4C23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9BF02-7565-4C3C-9047-A70E0C7FC1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