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902189"/>
        <c:axId val="18594581"/>
      </c:barChart>
      <c:catAx>
        <c:axId val="469021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94581"/>
        <c:crosses val="autoZero"/>
        <c:auto val="1"/>
        <c:lblAlgn val="ctr"/>
        <c:lblOffset val="100"/>
        <c:noMultiLvlLbl val="0"/>
      </c:catAx>
      <c:valAx>
        <c:axId val="185945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021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9E8D-04CA-4104-8F0D-6E91E58B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BF77-E784-4C01-8D1C-51453C5C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ADD6-F21A-47FE-B03E-F04BDC1C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DFC5-85D0-4F7B-8CA0-86D49353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AEE6-0D2F-4CD4-89C6-76ED6E3B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2B84-39F1-489F-96FC-56423F19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402F-00F0-4067-9283-9439EDCD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DE6D-EFFD-41CA-A71D-0A535078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E92A-6F6D-4F91-8233-2415EC79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6FBF-7170-4060-A754-8B54EF8B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1AF2-7A6A-48F4-ABB6-65CAA9FF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E7C5-AF7C-471D-8786-022536D9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169F6-ABF9-4263-9A95-0420CF8794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