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085533"/>
        <c:axId val="29345199"/>
      </c:barChart>
      <c:catAx>
        <c:axId val="110855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345199"/>
        <c:crosses val="autoZero"/>
        <c:auto val="1"/>
        <c:lblAlgn val="ctr"/>
        <c:lblOffset val="100"/>
        <c:noMultiLvlLbl val="0"/>
      </c:catAx>
      <c:valAx>
        <c:axId val="293451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0855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31BB-284E-44B3-8656-0572D6A5B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2F76-5476-4222-B1E4-15BD1FBCE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374C3-E823-4279-A382-857623EA0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4490-A40A-4CBF-A595-07FFA5D1E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BF13-8065-42FC-BA10-B67206F2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D5BF-3D84-43C6-A229-47E96C0FD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936E-6346-44ED-B425-BFEE16CD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6CEA-B465-46C8-9F62-2DCFB8F4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1971-4032-423F-832A-E29D65026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B3AE-8F61-4356-B0DA-C5FD5DDB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AD23-3F5F-49C0-9D1D-64DA8F41B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BCE6E-7647-4DD5-926B-E011C4A9E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F1E15-CE09-4EE6-B80E-CD411706D3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