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489368"/>
        <c:axId val="37614842"/>
      </c:barChart>
      <c:catAx>
        <c:axId val="114893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614842"/>
        <c:crosses val="autoZero"/>
        <c:auto val="1"/>
        <c:lblAlgn val="ctr"/>
        <c:lblOffset val="100"/>
        <c:noMultiLvlLbl val="0"/>
      </c:catAx>
      <c:valAx>
        <c:axId val="376148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4893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D5EC-3287-461A-AB6D-5C4991FF7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661B-64AF-49B9-BEBA-9A343E79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9A22-4169-4E57-846F-FE1616AAD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7E25-E91A-49DA-A7A0-7738FF579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EFDF-E36A-409A-B2E1-316C77D3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5F0F-C5B5-4DC7-A569-ADA5692E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456B-9003-43D3-B0B1-34838792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A7FB-EFB2-4B0D-81C9-84EA5150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D652-90BE-45F0-A42A-6FC65BB2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3766-7769-4083-80E2-A0E764D2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8A9D-13DC-469D-A546-D9206C42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8816-D3B8-4B3E-A9C4-103FF599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4AA9CA-2BA2-48B3-850B-289212EB5B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