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793759"/>
        <c:axId val="60816921"/>
      </c:barChart>
      <c:catAx>
        <c:axId val="857937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816921"/>
        <c:crosses val="autoZero"/>
        <c:auto val="1"/>
        <c:lblAlgn val="ctr"/>
        <c:lblOffset val="100"/>
        <c:noMultiLvlLbl val="0"/>
      </c:catAx>
      <c:valAx>
        <c:axId val="608169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7937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7B10-1DB3-49CC-B7A4-1D4E95759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2D71-190C-49E0-82A0-514FA847B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D318-7455-4D34-8403-088268FD1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F248-F1B0-4CA0-8DFC-B120F7F4D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A142-48B9-4D6E-A080-894F27137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1E06-1EF8-402A-BB4A-9C9AFCE27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2C60-3864-4AF5-8534-58E4ADFB6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3B65-69D2-433F-87DE-EEBF768E5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C750-7056-4E3C-8F70-323EF68BC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641C-4442-46D6-B132-8B1295004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8C40-3545-46CC-846C-271E014DA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5077-0CCE-4BDE-983B-B12ADA950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7FA012-CE59-456F-B092-49B576448B5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