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55946"/>
        <c:axId val="47560428"/>
      </c:barChart>
      <c:catAx>
        <c:axId val="27655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60428"/>
        <c:crosses val="autoZero"/>
        <c:auto val="1"/>
        <c:lblAlgn val="ctr"/>
        <c:lblOffset val="100"/>
        <c:noMultiLvlLbl val="0"/>
      </c:catAx>
      <c:valAx>
        <c:axId val="47560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55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D8E-D44F-4841-AAD5-24ED5E78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CA8-FA82-46F0-8E27-E2ED9EBE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9C8-6EAA-4039-A071-976AAE8C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20A-B92B-44B7-BEA2-CD97ACC1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3336-286E-4EBC-BFAF-97514AB0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BC2-10EC-4F35-9871-6717F66E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A7B-FF2B-4AF4-9D13-FECD756C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FD2-940B-4F00-852F-2B259568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D0C-1A26-41B6-B8FC-310831A1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677-6966-4E1A-BB35-BBD5C9C8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8C0-87F1-45C9-BC20-90228DD9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C5D-10F5-4FA1-9334-3FB0FA1B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0A982-6D63-49C4-84D3-DB1C41E58F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