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73145"/>
        <c:axId val="88403299"/>
      </c:barChart>
      <c:catAx>
        <c:axId val="27873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03299"/>
        <c:crosses val="autoZero"/>
        <c:auto val="1"/>
        <c:lblAlgn val="ctr"/>
        <c:lblOffset val="100"/>
        <c:noMultiLvlLbl val="0"/>
      </c:catAx>
      <c:valAx>
        <c:axId val="88403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73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946-12DC-4310-AE1A-65B7341E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457-D5B4-413C-9CBC-DD4B57DA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323-42FF-4A01-A0FB-CDF5055E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47D-ADD1-4F6F-8F9E-824F60E8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A4E-5467-4582-A3C9-6DC457F4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837-32A9-42E0-8DD2-FE748226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A81-6A0C-438D-AEE9-2EB4599F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980-178C-4C63-AF78-379CB918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842-3B00-4487-A677-A728E6E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2B3-2A5D-414A-B181-FFB24080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D02-D65B-48A5-A41B-62D7BD1A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5AA-0BCC-43E5-AECF-B20F1CE9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DCC9F-471D-4F96-9CC4-4FA3E47109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