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54444"/>
        <c:axId val="50118697"/>
      </c:barChart>
      <c:catAx>
        <c:axId val="46854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8697"/>
        <c:crosses val="autoZero"/>
        <c:auto val="1"/>
        <c:lblAlgn val="ctr"/>
        <c:lblOffset val="100"/>
        <c:noMultiLvlLbl val="0"/>
      </c:catAx>
      <c:valAx>
        <c:axId val="50118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4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08B-8146-418F-8671-ECA81E6A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2E2-46E6-4EFB-8143-780DB1BE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07D-EA36-4277-AB89-4C1F3C96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E8E-86C0-47C6-8C6F-F834DF80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019-A1AC-4AA2-B26E-CED6559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410-2748-4F39-83A6-850AF11B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114-53BC-4ED3-8773-472171D9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C8F-C32F-404C-BDB4-E3B43E4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A90-9E80-437D-BCDD-15D46548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8C0-4082-44C0-BD8C-D004F35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695-51BB-4514-A870-F33261F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A7B-7102-4C75-97A8-944547F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8AD09-2EE2-49F4-9CA7-BE6FC29A5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