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785016"/>
        <c:axId val="94228657"/>
      </c:barChart>
      <c:catAx>
        <c:axId val="67785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28657"/>
        <c:crosses val="autoZero"/>
        <c:auto val="1"/>
        <c:lblAlgn val="ctr"/>
        <c:lblOffset val="100"/>
        <c:noMultiLvlLbl val="0"/>
      </c:catAx>
      <c:valAx>
        <c:axId val="942286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785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30FB-F293-427A-90F9-DF538FCCD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8D9-DCFD-48B8-9A2B-3406CB3C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687-B79B-4E05-BC17-02CEC3D9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76A-749A-4A60-9820-8C866BC5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153A-6C82-42B2-8944-2B6572F4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F78-BB1F-4934-85AE-C2264A74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316-ABA8-4D9D-9162-5C5E5B51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7B4-4A7E-40C6-A797-2875BC4AB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E20A-D91C-402F-9CA1-6472DEA1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6D5-E63D-4E8D-9CA1-4362ACFC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6572-0586-4C57-B7E3-338539A5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3B9C-2BBC-417A-943B-FF1369E40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F780A5-2F99-4DC8-8B7C-712B17DB14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