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73469"/>
        <c:axId val="57982217"/>
      </c:barChart>
      <c:catAx>
        <c:axId val="50734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82217"/>
        <c:crosses val="autoZero"/>
        <c:auto val="1"/>
        <c:lblAlgn val="ctr"/>
        <c:lblOffset val="100"/>
        <c:noMultiLvlLbl val="0"/>
      </c:catAx>
      <c:valAx>
        <c:axId val="579822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34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BCF9-3F7D-405D-9C9A-34DC97435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EB92-748E-481F-A98F-59982DA9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740B-83D1-45BF-B35D-B74162B84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6E46-4735-4D02-9E4D-F46C907A9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1285-7A04-406D-B2AA-A0A9A72E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AF3B-3486-401D-9D9F-192BC5C8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D8DB-DCA0-4673-B176-D75ED60A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00C3-14AE-4E40-9E49-065E4F65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8652-7A65-49BE-B1E6-9E3D81E5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07FC-ED44-4CAC-B536-E063992B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988B-5CAA-4F7A-8AD4-10989B6A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8A9A-5B23-454A-9D3D-DC6F7031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C124D-E571-44C8-9EA1-382D71ED81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