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15113"/>
        <c:axId val="69646740"/>
      </c:barChart>
      <c:catAx>
        <c:axId val="33315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46740"/>
        <c:crosses val="autoZero"/>
        <c:auto val="1"/>
        <c:lblAlgn val="ctr"/>
        <c:lblOffset val="100"/>
        <c:noMultiLvlLbl val="0"/>
      </c:catAx>
      <c:valAx>
        <c:axId val="69646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15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03F-9FB8-43A2-8364-43EB38B0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BB2-A48E-4CC2-AE2F-CF3322BE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135-E96E-49A0-A9AA-3F3E85E7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A19-D85F-453B-8CF7-7B0AFB70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7D2-14B1-4DAF-BBF4-544830DC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00DF-36F6-47B7-9239-862B5DC9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02F-AD7F-4F00-8CE5-2AFBEAB9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BB3-183C-4552-8D6B-492588C3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6954-DEA8-4418-AFE6-DA9F49CC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1DC-41D0-445D-A5CD-C8F5B9F5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496-06D5-4B29-B6C5-37C12739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567-9AFF-4F30-A170-7618F4DF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9590E-C882-4B0F-8724-F4F82E1461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