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233430"/>
        <c:axId val="43301"/>
      </c:barChart>
      <c:catAx>
        <c:axId val="212334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01"/>
        <c:crosses val="autoZero"/>
        <c:auto val="1"/>
        <c:lblAlgn val="ctr"/>
        <c:lblOffset val="100"/>
        <c:noMultiLvlLbl val="0"/>
      </c:catAx>
      <c:valAx>
        <c:axId val="433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334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290-26E3-4391-A692-F43AE42B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81E-ECEE-4C9D-AFC4-BBD9D6A5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0889-E482-4931-B188-5C5A7E9C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B10-E55F-4505-B750-D00A7312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EEA5-632F-42EA-9FEA-B431A8EF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A59-77BE-40DF-904D-BEDD8343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D67-0124-4D08-92DA-A262C5F5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1DB-61B5-4F6D-832C-C798E492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49D0-3613-4AAF-AD35-8ADFE731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66A-67FA-423E-9D3B-AC629E4A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307F-6F80-4A7F-B86D-96ABFE4D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935E-9CD7-4D4A-B0DB-6D5B76B0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60ED1-D7DA-48FA-816F-A5797A6DC6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