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91381"/>
        <c:axId val="24443711"/>
      </c:barChart>
      <c:catAx>
        <c:axId val="74091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43711"/>
        <c:crosses val="autoZero"/>
        <c:auto val="1"/>
        <c:lblAlgn val="ctr"/>
        <c:lblOffset val="100"/>
        <c:noMultiLvlLbl val="0"/>
      </c:catAx>
      <c:valAx>
        <c:axId val="24443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91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230-764D-43BC-A47A-6B6FC8D8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580-5DAA-4887-8C0F-7ADEBA8F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608-2885-426A-9843-94E66BA6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7F7-C915-41C9-85DB-AA807374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0DD-035D-4207-B14B-76031550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CF2-A565-46FD-BC54-22456017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4F2-244D-48F4-B84B-873C9FD2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FEB-A239-4086-B069-F15B8D7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07D-D917-4ADA-B1D9-891A6FAF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F9E-57D2-454B-884B-08298EEF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98C-9507-410E-8F36-F9A117C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747-E230-4596-810E-9C3AAF5D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E07C6-535E-4CD2-88FD-C38F760BB4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