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1420"/>
        <c:axId val="84844161"/>
      </c:barChart>
      <c:catAx>
        <c:axId val="1691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44161"/>
        <c:crosses val="autoZero"/>
        <c:auto val="1"/>
        <c:lblAlgn val="ctr"/>
        <c:lblOffset val="100"/>
        <c:noMultiLvlLbl val="0"/>
      </c:catAx>
      <c:valAx>
        <c:axId val="84844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1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A92-BDB2-405C-827D-0AB8ACAB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305-D460-41D0-8C52-51C5C03D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4EA-3C0E-4AB5-94B5-C56C5EFA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C54-CBD0-47CD-9991-7A685622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F0B-49F4-4606-837E-7011D68F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014-3E8E-4033-8891-7A44198A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1FB-CB2C-4604-867B-A2079CEE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CF7-CC5C-494C-A8DE-B6AEB017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5B3-94A5-4301-A05A-75F7CAFB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173-BAF2-4B04-AFF4-2F737793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C32-E25E-490E-8CA8-DF7B9BFE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6AA-54D7-41E0-AB45-BFC3F148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1F3DF-FFDD-4A55-BE51-95855C838E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