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64827"/>
        <c:axId val="65488866"/>
      </c:barChart>
      <c:catAx>
        <c:axId val="83364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88866"/>
        <c:crosses val="autoZero"/>
        <c:auto val="1"/>
        <c:lblAlgn val="ctr"/>
        <c:lblOffset val="100"/>
        <c:noMultiLvlLbl val="0"/>
      </c:catAx>
      <c:valAx>
        <c:axId val="65488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64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6E3-339E-43EC-B1C1-12B733E9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1C0-7ACB-47CD-BAA4-F8F62243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DFE-E41C-4B37-8130-FDBD5160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BD1-C19F-4745-A2DB-731F1C73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409-5615-4A52-BDFF-AC6C7FC3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1AB-D1C2-4A57-AC66-FF8CB1C0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3C9-2893-4587-B3D2-CC702575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0D6-AB96-47E2-A490-2EE59182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A2AC-185B-4461-89DC-8A3DE6D7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CE5-BE0B-40D6-8CDF-83110BFB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F3C-8511-49FB-947E-02BEB371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CCE-1521-4E60-8722-92EEC96A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B47BD-7BB2-4096-8C6C-44183AC199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