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80692"/>
        <c:axId val="87778961"/>
      </c:barChart>
      <c:catAx>
        <c:axId val="53880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8961"/>
        <c:crosses val="autoZero"/>
        <c:auto val="1"/>
        <c:lblAlgn val="ctr"/>
        <c:lblOffset val="100"/>
        <c:noMultiLvlLbl val="0"/>
      </c:catAx>
      <c:valAx>
        <c:axId val="87778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0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F06-39E5-4EEF-95C1-73417F83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C87-3409-4474-94FA-937D720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174-23CC-45D9-A950-67E939B6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511-74C5-4474-B59B-E09CFDD5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94D-AFC6-469E-A5C7-7D9B1D77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D9C-F445-4363-87A9-76187934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FAA-B379-4E8C-93FD-317A91C7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191-2917-4BB2-B3D3-EA625EA9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BA3-5924-4EE6-AC6A-994DE159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B5F-B5FB-4FC9-8DE3-505B2F2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24A-5011-48CA-8694-631D656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606-453E-4183-BD3D-74B7F592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11711-2B7F-4D93-88AD-545781E91F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