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07710"/>
        <c:axId val="17995949"/>
      </c:barChart>
      <c:catAx>
        <c:axId val="11077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995949"/>
        <c:crosses val="autoZero"/>
        <c:auto val="1"/>
        <c:lblAlgn val="ctr"/>
        <c:lblOffset val="100"/>
        <c:noMultiLvlLbl val="0"/>
      </c:catAx>
      <c:valAx>
        <c:axId val="179959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77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1715-7493-4275-8B30-8EB3139E3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ACBC-742B-44B6-832A-BC179A75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9D3D-3316-4C54-97FC-53A0A42FA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8862-AB61-4047-87C1-40059FC8F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C65E-F674-4A21-BE3F-B42CEC1D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01ED-8D2C-4E6E-82F2-26046A38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C39B-F371-417D-B7DC-8F69F544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273F-D4B9-44D7-BA03-8A71591A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BC8A-0DC9-43E9-B58F-FB31647D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223F-1D1E-4A9B-9763-FC9B12B9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272D-A6E9-4F13-94B6-87AA7776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7CC1-1D49-4ADA-9FCB-D0A53BC8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78769-396A-4D45-8933-60FC5EF72D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