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578860"/>
        <c:axId val="56987757"/>
      </c:barChart>
      <c:catAx>
        <c:axId val="505788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987757"/>
        <c:crosses val="autoZero"/>
        <c:auto val="1"/>
        <c:lblAlgn val="ctr"/>
        <c:lblOffset val="100"/>
        <c:noMultiLvlLbl val="0"/>
      </c:catAx>
      <c:valAx>
        <c:axId val="569877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5788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E24F-EB70-43BC-8EC0-A18CBC0DB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35AB-1A51-4E53-BCA5-AF4B7796B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A561-FA24-49E2-AEF2-A38BA24CB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F305-C29C-4D61-A3DD-7912505FE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99ED-D050-47FF-B7E4-DC8348A11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7316-48FC-4D1B-A874-1663C8FEC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9212-438D-4B0F-8F39-182368A28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12EA-B1BD-4593-BC3E-65324F868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A6DA-3C00-497B-B405-BFD01E5D5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C9FF-7CD2-4783-9FE4-ED649766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A3BA-3F7C-4E5E-8D1C-DD25105F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E751-F29F-4547-A8A2-EF736F6F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90CA9C-BF50-470F-8441-92F75D2F0E9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